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4983-0514-4FF4-85E6-97F56136E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FCCC2-7FE9-4A16-933B-7BF64F29D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EBFF-8D3C-49C5-83FC-983E757268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32FC2-83EB-4C8B-949A-1FA5EE0D34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9A89CC-214A-4E47-8AB3-8F443B0495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CC52A-36E1-4BC5-83B0-BDAAFB060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394AE-33C1-4AC6-A019-BCA134AF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BAB29-A5AC-4A5C-AFE5-DD41F411D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B7CF33-5E11-4FD4-A175-24CA6E637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323CA-6528-4FD7-86C2-9FDAB248C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F6F55-FC5D-4D12-B3AC-E89AF8FB5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6BC-21EF-4B04-82A5-F2229BFA5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53E0D-1BB9-4096-9E1F-BA8C9426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1CC6E8-5C75-4875-AEF6-F834210C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20E05-B6E1-4E4C-BDBF-77A694BEE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DBC7C-EF45-43C2-8E1E-8E01822B1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A55B4-E085-478B-8FB6-FF090E852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BFD1-A56B-4416-B0DF-C57B6AACB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568E2-CEEC-4710-9FAC-297EF6C64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88E2-E2B4-406D-A3C8-DC44168B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B9136-6096-41C8-A95D-A6F5C4717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6634B-6E3A-4978-A40B-E4F9B9E1E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9C04-2992-412D-AA7B-E7B97E6C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B324-8BA2-48C4-BE4F-D2928E91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G Technical Meeting, Orlando, Jun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196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790BAAEC-ACFB-4E51-9FCE-483A94D01D7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81676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52280" y="0"/>
            <a:ext cx="112392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-</a:t>
            </a:r>
            <a:endParaRPr b="0" i="1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ased</a:t>
            </a:r>
            <a:endParaRPr b="0" i="1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mmunication</a:t>
            </a:r>
            <a:endParaRPr b="0" i="1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153280" y="15228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080" y="1676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D9DF1B9-A0CA-40A1-8B61-9CB0190C1874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2280"/>
            <a:ext cx="1600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143000"/>
            <a:ext cx="65674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198108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C Planned RFPs (Aug 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management (generation, distribution, storage, lifecycle, certificates, etc. including group keying support),  (Mercury/Aeronix – 7/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pto algorithm selection &amp; management, (M/A – 7/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audit, (M/A 7/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security, (BAE – 7/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IF (Tansu – 7/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Antennas (Virginia Tech – 7/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M &amp; PSM for SWRadio descriptors (RFC) (Raytheon – 7/19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FB654-2ED7-4560-B11D-A5789AFD89A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03:14:17Z</dcterms:created>
  <dc:creator/>
  <dc:description/>
  <dc:language>en-US</dc:language>
  <cp:lastModifiedBy>KEVIN RICHARDSON</cp:lastModifiedBy>
  <cp:lastPrinted>2001-04-17T19:56:05Z</cp:lastPrinted>
  <dcterms:modified xsi:type="dcterms:W3CDTF">2004-06-24T14:28:06Z</dcterms:modified>
  <cp:revision>165</cp:revision>
  <dc:subject/>
  <dc:title>SBC Planned RFPs (Aug 04)</dc:title>
</cp:coreProperties>
</file>